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FC8-8286-45AC-96D8-5462B013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7DC-84BF-45A0-B6DE-D681C585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91FBF-AC77-4DEF-9D16-5DEF486F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12016-13BB-4BC0-B971-6AB158FC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427B6-6BC7-4826-9F7B-1D24E3E3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59B16-7714-4272-851F-2A3521A7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D8BC5-2A8D-4EEF-A12F-7128374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537DF-C5BF-4B08-B12F-B5F082C5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6F9C8-7128-4DD7-89C6-3A61E218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F4724-8AAB-459C-81CA-8734C1F8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066AE-0077-469C-A1D9-60A8B823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06F-65EE-4B00-A599-A7D7D5E5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8FF-EF99-4A7B-AEEC-1B3B1C1A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5B0D-AB55-4A4E-9312-BF31E8B1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B344-8C87-43E1-A8EB-BFB88268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F845-EB12-4010-85AF-DBBED57D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024D-5E0E-4C18-8659-8FC0D290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83F4-EAD6-48E8-8A5D-BE3FAC54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0BB0-49B7-4B74-9075-F601FFC3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8340-7AC3-47D1-8A0B-3597A987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C06-36A2-46C8-85E8-23B63858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AD3F-8868-448B-87E7-821949E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FBEA-C161-47EE-A119-AD135AD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0337-8987-463B-92DA-D8DD1309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93CC-A6D1-4544-AC7D-65C5147E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3E28-20F6-49AF-9EAA-A91FD3EB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B783-0560-46EA-BAA1-9B16B03F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BAE4-76D8-4F2C-AE4D-21ED3346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0946-236D-46FD-AB50-4B80EE21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2FBA0-AAA2-44DD-BFB8-918A6642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E50C-52A3-4453-A13D-03BE6703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075-209F-4ADC-8997-B4DF5B19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54E4-93F1-4CE6-9CC8-F07F7F38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DFD2-1569-4F60-8F30-C3B1C4F8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2785-0EE3-4F0E-8E22-BD7A8FB2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4145-A3CE-46DA-9304-23F79ED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2122-088C-487A-BA2D-10A4C687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6DB9-D7A4-4805-AA9B-BBBFA0B0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B5C0-1F71-4C08-8F17-BB632C91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3662-BC3B-45FC-BBD4-2CFFF402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6F7CD-ACFA-49C2-8AE8-65E80EC1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04E04-501C-494B-B643-08E57796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B91-6B61-40EF-A089-70D0AC80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48CC-0BC7-46AE-893B-00CFAAAC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ED0BD-3B09-4D47-8EAA-1E62715A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A63C7-A79B-46F6-82FE-270CE552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55CBF-A116-420F-9CF3-75A202B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DB007-9C30-4944-914A-8F29AF4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B278-54AD-4415-9FB6-9772863A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634D-227A-468A-B917-FF26935F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D9ADD-A1B5-4149-A65B-8C1BFF5B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A6D4E-2109-440E-99D2-42E66DD6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56044-5370-4AC5-BDEF-AB0B6745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4EC-9E30-4BB7-A7AF-73F2DD2D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50A74-3177-41B8-8506-D8F34341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863F-8BEE-4496-BF64-0DCC4DDF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D72D8-5ADF-4691-80E3-13494E65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D7A3-5D16-4C3D-98A0-1103C1C9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7570-08E5-4A5D-B0B7-52A1123E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7505-130F-40EB-B8AB-9FA89DD3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C84F8-94B2-4122-ADDA-E237D4D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DFFB5-2C84-41E7-8BD5-C4647412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5F6C8-6817-462C-A5D0-F6C4B7F3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478EE-3986-49C9-AD3C-058C57C5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667-4657-4A86-98EE-B765ABBE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C9BD5-0E9E-4F5F-911C-658D75DA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4EE38-0F70-4E95-8578-7F80C9D2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39583-393A-406C-8BC0-B16FFFC9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8FCFB-3F4B-46D7-9E88-DCA8359C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E9494-549B-4205-8A76-79A03CC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FD625-DB1C-4498-9EF2-AB7BEA74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8FA76-522C-491D-9D83-0C6EABCE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2A728-F4C1-4301-AD7F-648EF94C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596BC-A2DE-4F78-A498-2D736D4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5DE95-C617-42DB-AF7B-4D7F4ABC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B0F-84FE-4B07-8616-36F7AFC0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E8F25-00CA-44AD-879F-5F5006BA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E22B-A250-4A40-83A6-D095D8FC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BE816-B186-4897-B0AF-3904DDD5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52DE5-F01B-4DB2-B337-0ABFC5D7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17F59-C6E4-4803-9797-EE73B88A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B9972-C074-4374-940F-4FC102C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B3C74-DFF0-4B95-9669-7903D136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444B9-5E3B-4320-B27D-46324FC4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65C0-8E31-4C36-BD7F-F7A05B4B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4B0D6-C73A-4D58-ADA7-CC5CEE91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A1B-E0DF-4491-9204-747355B9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CD05B-F6BE-45D9-A77B-A5FCC942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B986-00ED-43F3-B5F0-D5FA824D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291F3-816D-4974-8F1B-B9AB8D89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76FD5-2B58-4BFF-9C65-AD80A84D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B8254-1890-49B5-A78D-660D255D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DE49F-83C8-4CF9-A9A3-0FCB8464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238CD-CB6A-4774-95AB-476C7317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105CA-E968-4B5F-AB61-F625C0A1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3E3E2-3A07-4EA2-9469-65340AF7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6378F-A400-41FC-8FAD-5468AC52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D9C-9BCB-43B7-8CCA-4B1DAAD0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DD960-C1FA-42AB-B959-BA30ED34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72E14-C9A2-4CA1-83F3-37D117A1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B474C-4F6E-4F7E-B32F-0E78B4CB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5A22F-1228-4B17-B180-01C0399A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68CA2-66D1-4061-96D2-A2FEDE6E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F94E6-6610-4E30-8AD7-E49EC1F9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D04BD-FD9E-4755-8AFB-48A1B402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AA9CE-0AB1-4FD6-BED9-E79A59F0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6EB43-9C61-4DCC-A54B-1269E856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E8368-7098-4D9C-B255-A05F7932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5AA84-070D-4626-99BB-6B1EF018C7A4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2EC24-DDE2-4DA8-8CCA-5F39CD26E754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FA275-DD3A-42BB-A116-44283CBD3BB0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045CE-93AE-4683-9A43-94A7BB7CFECA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B275A-3BDD-4891-A66C-8764D903C880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71205-A51B-485C-BF21-31DCEBB6308C}" type="slidenum">
              <a:rPr b="1" lang="en-US" sz="11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C4868-DCD3-40E7-9C68-40128CA865EC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7AB52-04FF-4A65-95B1-3256302E371C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AE168-2272-4171-9A55-43EAAC150E4C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3C749-8199-47AC-B1E7-E8D6BF19C7EB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8CCAC-5C35-4F7B-95E9-9150FA357EE1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C949D-E133-4C8E-A0F0-2D68C2210883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77E0D-AE10-452B-80AF-933744E57D9C}" type="datetime">
              <a:rPr b="1" lang="en-US" sz="1100" spc="-1" strike="noStrike">
                <a:solidFill>
                  <a:srgbClr val="fffff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552BF-9EA5-424A-92AB-53CD01AC05A3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EBA51-B2DF-4C92-832F-55CF079F3378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5CAD9-5282-4DEF-8AC4-FDCB81B67651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B1E46-9BF3-4DF8-95DB-92F1F3E1F9EB}" type="datetime">
              <a:rPr b="1" lang="en-US" sz="1100" spc="-1" strike="noStrike">
                <a:solidFill>
                  <a:srgbClr val="7f7f7f"/>
                </a:solidFill>
                <a:latin typeface="Calisto MT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3FC24-BB92-4142-8174-8DC895E48D6B}" type="slidenum">
              <a:rPr b="1" lang="en-US" sz="1100" spc="-1" strike="noStrike">
                <a:solidFill>
                  <a:srgbClr val="7f7f7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8160" cy="1600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Poetry Lesson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2819520"/>
            <a:ext cx="8228160" cy="27432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dgar Allan Poe: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The Raven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nnabel Lee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obert Frost: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othing Gold Can Stay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Mending Wall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topping by Woods on a Snowy Evening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3520440" y="60958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f4c73"/>
                </a:solidFill>
                <a:latin typeface="Calisto MT"/>
              </a:rPr>
              <a:t>Mrs. Rou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f4c73"/>
                </a:solidFill>
                <a:latin typeface="Calisto MT"/>
              </a:rPr>
              <a:t>Quest: Poet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The End! 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dgar Allan Po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5" name="HomeFolders:TeachersA-F:Angela_Roundy:Desktop:Poe and Frost  Poem PowerPoint:Poe and Frost Videos:Edgar Allan Poe Biography.3gp" descr="/Network/Servers/crms-1.leanderisd.org/HomeFolders/TeachersA-F/Angela_Roundy/Desktop/Poe and Frost  Poem PowerPoint/Poe and Frost Videos/Edgar Allan Poe Biography.3gp"/>
          <p:cNvPicPr/>
          <p:nvPr/>
        </p:nvPicPr>
        <p:blipFill>
          <a:blip r:embed="rId2"/>
          <a:stretch/>
        </p:blipFill>
        <p:spPr>
          <a:xfrm>
            <a:off x="3276720" y="2286000"/>
            <a:ext cx="5452920" cy="4462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Edgar Allan Poe.jpg"/>
          <p:cNvPicPr/>
          <p:nvPr/>
        </p:nvPicPr>
        <p:blipFill>
          <a:blip r:embed="rId3"/>
          <a:stretch/>
        </p:blipFill>
        <p:spPr>
          <a:xfrm>
            <a:off x="228600" y="1487520"/>
            <a:ext cx="263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3510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The Life of Edgar Allan Poe  and his wife Virginia Eliza Clemm Poe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8" name="HomeFolders:TeachersA-F:Angela_Roundy:Desktop:Poe and Frost  Poem PowerPoint:Poe and Frost Videos:Poe and Annabel Lee Life.3gp" descr="/Network/Servers/crms-1.leanderisd.org/HomeFolders/TeachersA-F/Angela_Roundy/Desktop/Poe and Frost  Poem PowerPoint/Poe and Frost Videos/Poe and Annabel Lee Life.3gp"/>
          <p:cNvPicPr/>
          <p:nvPr/>
        </p:nvPicPr>
        <p:blipFill>
          <a:blip r:embed="rId2"/>
          <a:stretch/>
        </p:blipFill>
        <p:spPr>
          <a:xfrm>
            <a:off x="4495680" y="1600200"/>
            <a:ext cx="4267440" cy="34909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649600"/>
            <a:ext cx="35100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Virginia is also known as “Annabel Lee”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Virginia and Edgar Allan were distant cousins and were wedded when Virginia was only thirteen. Edgar loved his “Annabel Lee” to her dying da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 “</a:t>
            </a: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e Raven”</a:t>
            </a:r>
            <a:br>
              <a:rPr sz="4600"/>
            </a:br>
            <a:r>
              <a:rPr b="0" lang="en-US" sz="1400" spc="-1" strike="noStrike">
                <a:solidFill>
                  <a:srgbClr val="ffffff"/>
                </a:solidFill>
                <a:latin typeface="Calisto MT"/>
              </a:rPr>
              <a:t>Edgar Allan Poe </a:t>
            </a:r>
            <a:endParaRPr b="0" lang="en-US" sz="1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5241240" y="586728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e Raven Video Stor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HomeFolders:TeachersA-F:Angela_Roundy:Desktop:Poe and Frost  Poem PowerPoint:Poe and Frost Videos:The Raven Video.3gp" descr="/Network/Servers/crms-1.leanderisd.org/HomeFolders/TeachersA-F/Angela_Roundy/Desktop/Poe and Frost  Poem PowerPoint/Poe and Frost Videos/The Raven Video.3gp"/>
          <p:cNvPicPr/>
          <p:nvPr/>
        </p:nvPicPr>
        <p:blipFill>
          <a:blip r:embed="rId2"/>
          <a:stretch/>
        </p:blipFill>
        <p:spPr>
          <a:xfrm>
            <a:off x="4508640" y="2133720"/>
            <a:ext cx="4284360" cy="3504960"/>
          </a:xfrm>
          <a:prstGeom prst="rect">
            <a:avLst/>
          </a:prstGeom>
          <a:ln w="0">
            <a:noFill/>
          </a:ln>
        </p:spPr>
      </p:pic>
      <p:pic>
        <p:nvPicPr>
          <p:cNvPr id="383" name="HomeFolders:TeachersA-F:Angela_Roundy:Desktop:Poe and Frost  Poem PowerPoint:Poe and Frost Videos:The Raven_Edgar Allen Poe.3gp" descr="/Network/Servers/crms-1.leanderisd.org/HomeFolders/TeachersA-F/Angela_Roundy/Desktop/Poe and Frost  Poem PowerPoint/Poe and Frost Videos/The Raven_Edgar Allen Poe.3gp"/>
          <p:cNvPicPr/>
          <p:nvPr/>
        </p:nvPicPr>
        <p:blipFill>
          <a:blip r:embed="rId3"/>
          <a:stretch/>
        </p:blipFill>
        <p:spPr>
          <a:xfrm>
            <a:off x="228600" y="1487520"/>
            <a:ext cx="4113360" cy="33656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5054760"/>
            <a:ext cx="312408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dgar Allan Poe “The Raven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 “</a:t>
            </a: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Annabel Lee”</a:t>
            </a:r>
            <a:br>
              <a:rPr sz="4600"/>
            </a:br>
            <a:r>
              <a:rPr b="0" lang="en-US" sz="1400" spc="-1" strike="noStrike">
                <a:solidFill>
                  <a:srgbClr val="ffffff"/>
                </a:solidFill>
                <a:latin typeface="Calisto MT"/>
              </a:rPr>
              <a:t>Edgar Allan Poe </a:t>
            </a:r>
            <a:endParaRPr b="0" lang="en-US" sz="1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52320" y="6019560"/>
            <a:ext cx="294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Annabel Lee” Video Storyboard Poem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7" name="HomeFolders:TeachersA-F:Angela_Roundy:Desktop:Poe and Frost  Poem PowerPoint:Poe and Frost Videos:Annabel Lee Video Poem.3gp" descr="/Network/Servers/crms-1.leanderisd.org/HomeFolders/TeachersA-F/Angela_Roundy/Desktop/Poe and Frost  Poem PowerPoint/Poe and Frost Videos/Annabel Lee Video Poem.3gp"/>
          <p:cNvPicPr/>
          <p:nvPr/>
        </p:nvPicPr>
        <p:blipFill>
          <a:blip r:embed="rId2"/>
          <a:stretch/>
        </p:blipFill>
        <p:spPr>
          <a:xfrm>
            <a:off x="2970360" y="1854360"/>
            <a:ext cx="5945040" cy="37353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7"/>
          <p:cNvSpPr/>
          <p:nvPr/>
        </p:nvSpPr>
        <p:spPr>
          <a:xfrm>
            <a:off x="0" y="4307040"/>
            <a:ext cx="27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Virginia Eliza Clemm P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8" descr="Virgina Poe.jpg"/>
          <p:cNvPicPr/>
          <p:nvPr/>
        </p:nvPicPr>
        <p:blipFill>
          <a:blip r:embed="rId3"/>
          <a:stretch/>
        </p:blipFill>
        <p:spPr>
          <a:xfrm>
            <a:off x="228600" y="344520"/>
            <a:ext cx="250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8953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Robert Frost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4572000"/>
            <a:ext cx="8228160" cy="990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othing Gold Can Stay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Mending Wall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topping by Woods on a Snowy Evening”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2" name="Picture 17" descr="Robert Frost.jpg"/>
          <p:cNvPicPr/>
          <p:nvPr/>
        </p:nvPicPr>
        <p:blipFill>
          <a:blip r:embed="rId2"/>
          <a:stretch/>
        </p:blipFill>
        <p:spPr>
          <a:xfrm>
            <a:off x="3429000" y="1123920"/>
            <a:ext cx="2571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 “</a:t>
            </a: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Nothing Gold Can Stay”</a:t>
            </a:r>
            <a:br>
              <a:rPr sz="4600"/>
            </a:br>
            <a:r>
              <a:rPr b="0" lang="en-US" sz="1400" spc="-1" strike="noStrike">
                <a:solidFill>
                  <a:srgbClr val="ffffff"/>
                </a:solidFill>
                <a:latin typeface="Calisto MT"/>
              </a:rPr>
              <a:t>Robert Frost</a:t>
            </a:r>
            <a:endParaRPr b="0" lang="en-US" sz="1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40880" y="2784240"/>
            <a:ext cx="37674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5" name="Content Placeholder 8" descr="Nothing Gold Can Stay.jpg"/>
          <p:cNvPicPr/>
          <p:nvPr/>
        </p:nvPicPr>
        <p:blipFill>
          <a:blip r:embed="rId2"/>
          <a:srcRect l="0" t="-7559" r="0" b="-7559"/>
          <a:stretch/>
        </p:blipFill>
        <p:spPr>
          <a:xfrm>
            <a:off x="457200" y="2784600"/>
            <a:ext cx="3767040" cy="3252600"/>
          </a:xfrm>
          <a:prstGeom prst="rect">
            <a:avLst/>
          </a:prstGeom>
          <a:ln w="0">
            <a:noFill/>
          </a:ln>
        </p:spPr>
      </p:pic>
      <p:pic>
        <p:nvPicPr>
          <p:cNvPr id="396" name="HomeFolders:TeachersA-F:Angela_Roundy:Desktop:Poe and Frost  Poem PowerPoint:Poe and Frost Videos:Nothing Gold Can Stay_Robert Frost.3gp" descr="/Network/Servers/crms-1.leanderisd.org/HomeFolders/TeachersA-F/Angela_Roundy/Desktop/Poe and Frost  Poem PowerPoint/Poe and Frost Videos/Nothing Gold Can Stay_Robert Frost.3gp"/>
          <p:cNvPicPr/>
          <p:nvPr/>
        </p:nvPicPr>
        <p:blipFill>
          <a:blip r:embed="rId3"/>
          <a:stretch/>
        </p:blipFill>
        <p:spPr>
          <a:xfrm>
            <a:off x="4567320" y="2362320"/>
            <a:ext cx="41194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 “</a:t>
            </a: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Mending Wall”</a:t>
            </a:r>
            <a:br>
              <a:rPr sz="4600"/>
            </a:br>
            <a:r>
              <a:rPr b="0" lang="en-US" sz="1400" spc="-1" strike="noStrike">
                <a:solidFill>
                  <a:srgbClr val="ffffff"/>
                </a:solidFill>
                <a:latin typeface="Calisto MT"/>
              </a:rPr>
              <a:t>Robert Frost</a:t>
            </a:r>
            <a:endParaRPr b="0" lang="en-US" sz="1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740880" y="2784240"/>
            <a:ext cx="37674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9" name="Content Placeholder 9" descr="the mending wall.jpg"/>
          <p:cNvPicPr/>
          <p:nvPr/>
        </p:nvPicPr>
        <p:blipFill>
          <a:blip r:embed="rId2"/>
          <a:srcRect l="-32133" t="0" r="-32133" b="0"/>
          <a:stretch/>
        </p:blipFill>
        <p:spPr>
          <a:xfrm>
            <a:off x="-609480" y="878040"/>
            <a:ext cx="3859200" cy="3617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WallBarn.jpg"/>
          <p:cNvPicPr/>
          <p:nvPr/>
        </p:nvPicPr>
        <p:blipFill>
          <a:blip r:embed="rId3"/>
          <a:stretch/>
        </p:blipFill>
        <p:spPr>
          <a:xfrm>
            <a:off x="4038480" y="1487520"/>
            <a:ext cx="4951440" cy="3522600"/>
          </a:xfrm>
          <a:prstGeom prst="rect">
            <a:avLst/>
          </a:prstGeom>
          <a:ln w="0">
            <a:noFill/>
          </a:ln>
        </p:spPr>
      </p:pic>
      <p:pic>
        <p:nvPicPr>
          <p:cNvPr id="401" name="HomeFolders:TeachersA-F:Angela_Roundy:Desktop:Poe and Frost  Poem PowerPoint:Poe and Frost Videos:Mending Wall_Robert Frost.3gp" descr="/Network/Servers/crms-1.leanderisd.org/HomeFolders/TeachersA-F/Angela_Roundy/Desktop/Poe and Frost  Poem PowerPoint/Poe and Frost Videos/Mending Wall_Robert Frost.3gp"/>
          <p:cNvPicPr/>
          <p:nvPr/>
        </p:nvPicPr>
        <p:blipFill>
          <a:blip r:embed="rId4"/>
          <a:stretch/>
        </p:blipFill>
        <p:spPr>
          <a:xfrm>
            <a:off x="1671480" y="4495680"/>
            <a:ext cx="28371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 “</a:t>
            </a: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topping by Woods on a Snowy Evening”</a:t>
            </a:r>
            <a:br>
              <a:rPr sz="4600"/>
            </a:br>
            <a:r>
              <a:rPr b="0" lang="en-US" sz="1400" spc="-1" strike="noStrike">
                <a:solidFill>
                  <a:srgbClr val="ffffff"/>
                </a:solidFill>
                <a:latin typeface="Calisto MT"/>
              </a:rPr>
              <a:t>Robert Frost</a:t>
            </a:r>
            <a:endParaRPr b="0" lang="en-US" sz="1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40880" y="2784240"/>
            <a:ext cx="37674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4" name="Content Placeholder 8" descr="Snow.jpg"/>
          <p:cNvPicPr/>
          <p:nvPr/>
        </p:nvPicPr>
        <p:blipFill>
          <a:blip r:embed="rId2"/>
          <a:srcRect l="-15055" t="0" r="-15055" b="0"/>
          <a:stretch/>
        </p:blipFill>
        <p:spPr>
          <a:xfrm>
            <a:off x="4890960" y="2057400"/>
            <a:ext cx="4438800" cy="3833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Snowy evening.jpg"/>
          <p:cNvPicPr/>
          <p:nvPr/>
        </p:nvPicPr>
        <p:blipFill>
          <a:blip r:embed="rId3"/>
          <a:stretch/>
        </p:blipFill>
        <p:spPr>
          <a:xfrm>
            <a:off x="0" y="2057400"/>
            <a:ext cx="4013280" cy="2673360"/>
          </a:xfrm>
          <a:prstGeom prst="rect">
            <a:avLst/>
          </a:prstGeom>
          <a:ln w="0">
            <a:noFill/>
          </a:ln>
        </p:spPr>
      </p:pic>
      <p:pic>
        <p:nvPicPr>
          <p:cNvPr id="406" name="HomeFolders:TeachersA-F:Angela_Roundy:Desktop:Poe and Frost  Poem PowerPoint:Poe and Frost Videos:Stopping by Woods on a Snowy Evening_Robert Frost.3gp" descr="/Network/Servers/crms-1.leanderisd.org/HomeFolders/TeachersA-F/Angela_Roundy/Desktop/Poe and Frost  Poem PowerPoint/Poe and Frost Videos/Stopping by Woods on a Snowy Evening_Robert Frost.3gp"/>
          <p:cNvPicPr/>
          <p:nvPr/>
        </p:nvPicPr>
        <p:blipFill>
          <a:blip r:embed="rId4"/>
          <a:stretch/>
        </p:blipFill>
        <p:spPr>
          <a:xfrm>
            <a:off x="2540160" y="41148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21:54:26Z</dcterms:created>
  <dc:creator>Leander ISD</dc:creator>
  <dc:description/>
  <dc:language>en-US</dc:language>
  <cp:lastModifiedBy>Leander ISD</cp:lastModifiedBy>
  <dcterms:modified xsi:type="dcterms:W3CDTF">2009-04-30T18:31:07Z</dcterms:modified>
  <cp:revision>20</cp:revision>
  <dc:subject/>
  <dc:title>Poetry Lesson</dc:title>
</cp:coreProperties>
</file>